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27B-1F7C-423F-BA5F-42F4DE97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8AB-05C7-49E4-AF01-E857D08E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5FF3-2BA1-4055-8802-C389D38C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CC9-5DD8-49E8-970E-01D5484F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24C-1148-4170-B05B-30231C86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5921-9AD2-4A2E-8AAC-9A2066D8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51A-830A-4B3D-A14F-9B922F07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706-4CF8-4756-87A5-E4A52A47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993-F9E4-4A02-8848-342F98DF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DAE-40DE-4983-9361-1E14C643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628-2293-4362-BCA2-4F2A2938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548-5770-4BD6-A841-99761F38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F73335-9024-447A-BB2C-FE7D8F4CB9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happened at the Homestead (Pennsylvania) steel mill during the summer of 1892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523880" y="0"/>
            <a:ext cx="612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827360" y="0"/>
            <a:ext cx="5640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68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762120" y="685800"/>
            <a:ext cx="7772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hods did the Amalgamated Association of Iron and Steel Workers (the union at Homestead) use to gain power at Carnegie Ste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Collective Barga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Stri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Violence against Pinkertons and Scab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09480" y="609480"/>
            <a:ext cx="80773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Carnegie Steel (under the guidance of CEO Henry Clay Frick) respond to the union’s demand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“Lockout” of wor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Hired Pinkerton Detectives to re-open the pl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Hired non-union (“scab”) wor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Brought in Pennsylvania State Militia to guard the pla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id organized labor unions represent a threat to the power of big business owners (like the “Robber Barons”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nflicts between labor and management (like at Homestead)during the Gilded Age, did the government tend to support workers or own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you think the government sided with owners during the Gilded Ag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re there any similarities between the 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r conflicts of the Gilded Age and current event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533520" y="1066680"/>
            <a:ext cx="7772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Who should have the most power in a workplac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those who own the company or those who do the work to make products (or provide a servic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wners/management or Lab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89172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03:57Z</dcterms:created>
  <dc:creator>Emily Dolci</dc:creator>
  <dc:description/>
  <dc:language>en-US</dc:language>
  <cp:lastModifiedBy>Dominic Lambek</cp:lastModifiedBy>
  <dcterms:modified xsi:type="dcterms:W3CDTF">2013-12-09T13:04:12Z</dcterms:modified>
  <cp:revision>9</cp:revision>
  <dc:subject/>
  <dc:title>Slide 1</dc:title>
</cp:coreProperties>
</file>